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EEB-F2B6-48AD-B6BF-B2AD11CC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875-86BB-4EA9-A10F-1C137D19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6DD-22CF-4350-9C68-03450F0D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1BC-8D61-4D78-BC53-838FDE9F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08A3-023B-4C7F-A672-505BDA23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1340-24F0-482D-9387-311B87A1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1110-B410-4ABF-BDD5-7594481B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657A-EDDC-41AD-ABE6-2408B37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1C25-1F8D-4840-B48D-CFA6CDC1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B137-0E45-4044-8CAB-32FCA3C3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CE38-A3F3-4DEC-B673-A1158CA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D4E-404F-4FF8-ABB1-7F9A1022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E4F-584B-4FD9-8479-C3A9EEE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EFC8-33EC-4D0E-911A-2EA22C41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88DC-055A-4F7F-B497-183DF015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F2A9-02A0-4564-8973-37BE8465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28E5-ECEF-4AA0-B079-745249FE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11E-0745-4406-83C0-9EC967A1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E97-69CA-4896-AFE8-2649274E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E1C-66AB-431E-89BE-DCD2E4F9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243-7542-4177-82E5-C5EA7CAD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FE5-8540-4436-BAF7-E51D4C52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B6E-885A-4650-8BDE-D87EAB2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A8E-BC5E-46FA-8C92-C9A58DDE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8ADC-3C89-4A32-9615-3A93CDDDC29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CF73-5FA7-472F-A183-D50F52D28A8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Auxiliar Nº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ferta y Deman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4038480"/>
            <a:ext cx="70106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ferta: representa la cantidad total que los oferentes están dispuesto a producir a cierto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anda: representa la cantidad total que los demandantes están dispuestos a comprar a cier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03280" y="1640520"/>
            <a:ext cx="3239640" cy="2249640"/>
            <a:chOff x="1403280" y="1640520"/>
            <a:chExt cx="3239640" cy="2249640"/>
          </a:xfrm>
        </p:grpSpPr>
        <p:grpSp>
          <p:nvGrpSpPr>
            <p:cNvPr id="95" name=""/>
            <p:cNvGrpSpPr/>
            <p:nvPr/>
          </p:nvGrpSpPr>
          <p:grpSpPr>
            <a:xfrm>
              <a:off x="1403280" y="1640520"/>
              <a:ext cx="3239640" cy="2249640"/>
              <a:chOff x="1403280" y="1640520"/>
              <a:chExt cx="3239640" cy="224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80320" y="3468600"/>
                <a:ext cx="46260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03280" y="1640520"/>
                <a:ext cx="462600" cy="28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00320" y="3468600"/>
                <a:ext cx="3081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57360" y="2202840"/>
                <a:ext cx="4629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865880" y="1640520"/>
                <a:ext cx="0" cy="18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65880" y="3468600"/>
                <a:ext cx="262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865880" y="1921680"/>
                <a:ext cx="200592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65880" y="2343600"/>
                <a:ext cx="138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400000">
                <a:off x="2138040" y="2071080"/>
                <a:ext cx="843480" cy="1388520"/>
              </a:xfrm>
              <a:prstGeom prst="rtTriangl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54760" y="2343600"/>
                <a:ext cx="0" cy="11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5003640" y="1628640"/>
            <a:ext cx="3384720" cy="2376360"/>
            <a:chOff x="5003640" y="1628640"/>
            <a:chExt cx="3384720" cy="2376360"/>
          </a:xfrm>
        </p:grpSpPr>
        <p:sp>
          <p:nvSpPr>
            <p:cNvPr id="107" name=""/>
            <p:cNvSpPr/>
            <p:nvPr/>
          </p:nvSpPr>
          <p:spPr>
            <a:xfrm>
              <a:off x="7904880" y="355968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640" y="1628640"/>
              <a:ext cx="48348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54080" y="3559680"/>
              <a:ext cx="32220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64560" y="266832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487120" y="1628640"/>
              <a:ext cx="0" cy="19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7120" y="3559680"/>
              <a:ext cx="27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486760" y="1925640"/>
              <a:ext cx="193428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7120" y="2817000"/>
              <a:ext cx="112824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7120" y="1925640"/>
              <a:ext cx="1128240" cy="8913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5360" y="2817000"/>
              <a:ext cx="720" cy="74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asticidades</a:t>
            </a:r>
            <a:br>
              <a:rPr sz="4200"/>
            </a:b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ceteris parib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15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demanda: Magnitud de la reacción de la cantidad demandada ante un cambio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oferta: grado de respuesta de los productores ante variaciones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 de val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con elasticidad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24360" y="404640"/>
                <a:ext cx="266544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4653000"/>
                <a:ext cx="136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sten cuatro principales estructuras de merc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perfec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tomadoras de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opol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sola firm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la determina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y poc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coludirse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muy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Perfec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4723920"/>
            <a:ext cx="7010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 perf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en perfectamente Hom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1917360"/>
            <a:ext cx="3312720" cy="2448000"/>
            <a:chOff x="1042920" y="1917360"/>
            <a:chExt cx="3312720" cy="2448000"/>
          </a:xfrm>
        </p:grpSpPr>
        <p:sp>
          <p:nvSpPr>
            <p:cNvPr id="126" name=""/>
            <p:cNvSpPr/>
            <p:nvPr/>
          </p:nvSpPr>
          <p:spPr>
            <a:xfrm>
              <a:off x="3882600" y="3906720"/>
              <a:ext cx="4730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42920" y="1917720"/>
              <a:ext cx="4730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62760" y="3906720"/>
              <a:ext cx="31536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0240" y="2988720"/>
              <a:ext cx="473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15960" y="3906720"/>
              <a:ext cx="26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15960" y="2223360"/>
              <a:ext cx="1104120" cy="918000"/>
            </a:xfrm>
            <a:prstGeom prst="rtTriangl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19720" y="3141720"/>
              <a:ext cx="720" cy="76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1838160" y="2818800"/>
              <a:ext cx="458640" cy="110412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515600" y="3141720"/>
              <a:ext cx="110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15960" y="2529360"/>
              <a:ext cx="252432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515960" y="1917360"/>
              <a:ext cx="0" cy="19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1515600" y="2223360"/>
              <a:ext cx="1893240" cy="15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19640" y="2930400"/>
                <a:ext cx="2808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005440" y="213192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4581000"/>
            <a:ext cx="410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sustitos perf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s barrera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32360" y="3211560"/>
                <a:ext cx="37450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284720" y="1484280"/>
            <a:ext cx="4535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: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nopolista maximiza su utilida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1484280"/>
            <a:ext cx="4114800" cy="3141360"/>
            <a:chOff x="468360" y="1484280"/>
            <a:chExt cx="4114800" cy="3141360"/>
          </a:xfrm>
        </p:grpSpPr>
        <p:sp>
          <p:nvSpPr>
            <p:cNvPr id="145" name=""/>
            <p:cNvSpPr/>
            <p:nvPr/>
          </p:nvSpPr>
          <p:spPr>
            <a:xfrm>
              <a:off x="835200" y="2398320"/>
              <a:ext cx="42984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3800" y="2627280"/>
              <a:ext cx="914400" cy="5713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0120" y="4048200"/>
              <a:ext cx="47304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360" y="1484280"/>
              <a:ext cx="70128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9600" y="4048200"/>
              <a:ext cx="468360" cy="32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169640" y="3998160"/>
              <a:ext cx="318456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69640" y="1908360"/>
              <a:ext cx="898560" cy="718560"/>
            </a:xfrm>
            <a:prstGeom prst="rtTriangl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407960" y="2959920"/>
              <a:ext cx="421560" cy="8985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169640" y="2283840"/>
              <a:ext cx="2727360" cy="133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153800" y="1484280"/>
              <a:ext cx="1584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169280" y="1908360"/>
              <a:ext cx="2498760" cy="19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2200" y="1861200"/>
              <a:ext cx="1859760" cy="27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062080" y="2614680"/>
              <a:ext cx="0" cy="138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153800" y="2627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4560" y="1773000"/>
            <a:ext cx="63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os comportamiento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92720" y="3241800"/>
                <a:ext cx="3600360" cy="1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t xml:space="preserve">π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3284640"/>
            <a:ext cx="453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cooperativo: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44500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no cooperativ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ompetencia perfecta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largo plazo no hay dificultades para entrar o salir de la ind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firma puede modelarse como un mon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tiene competencia para el grupo de consumidores que los percibe como diferen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434960"/>
          <a:ext cx="7153200" cy="4730760"/>
        </p:xfrm>
        <a:graphic>
          <a:graphicData uri="http://schemas.openxmlformats.org/drawingml/2006/table">
            <a:tbl>
              <a:tblPr/>
              <a:tblGrid>
                <a:gridCol w="1324080"/>
                <a:gridCol w="1616040"/>
                <a:gridCol w="2027160"/>
                <a:gridCol w="2185920"/>
              </a:tblGrid>
              <a:tr h="1103040"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Empresas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empres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Product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928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Diferenciad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86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Monopolis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Perfec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 flipH="1">
            <a:off x="2484000" y="1989000"/>
            <a:ext cx="2158920" cy="93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780000" y="1989000"/>
            <a:ext cx="1079280" cy="10083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989000"/>
            <a:ext cx="1224000" cy="648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3141720"/>
            <a:ext cx="0" cy="3585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94036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1:31:26Z</dcterms:created>
  <dc:creator>Loreto Tamblay</dc:creator>
  <dc:description/>
  <dc:language>en-US</dc:language>
  <cp:lastModifiedBy>Loreto Tamblay</cp:lastModifiedBy>
  <dcterms:modified xsi:type="dcterms:W3CDTF">2004-10-16T00:37:03Z</dcterms:modified>
  <cp:revision>8</cp:revision>
  <dc:subject/>
  <dc:title>Auxiliar Nº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